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B811-F95C-42F8-BEDA-F3DA911E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D4E-22D6-404F-A147-A68B4D42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E319-545E-4E17-A611-9D2B1688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7410-C788-4F1D-A604-2428BFD5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8C20-E814-4262-9C3F-58A206C7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5F1E-7645-4E5B-8593-0FF0BDEE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B1EB-7FDC-4BA9-8187-07BEB730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BA5A-5812-4296-9B5D-BDD06BBB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00CB-0FA0-44B9-A3FD-65937B35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03D6-8969-4BA0-A300-D5493F92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9F6E-2302-4B62-BB22-C5301B76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F0B5-36DF-40E6-A9F5-256AD1E5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9FA9-9062-4F09-94B8-F1A5740E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DFE9-DEFC-46BF-887A-02343A98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3FCA-282A-4B88-8056-734C275B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2D8F-1A86-4389-AAA2-6E6322E25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7434-7556-4ECD-A06D-4A4B7DC8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E262-374A-473C-AC03-53DF0C04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0C6C-6CD2-406E-81C3-B249F0DD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7F5B-F1B8-460A-B18E-DE9292B3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9A8A-637D-4498-8B27-35932197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0565-B174-4211-A44E-4CEB59B3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5EEA-CFB5-48BB-8D70-27F6759A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3970-0A2D-4CA3-8F60-08DFE088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EA14-441C-4DFB-93CC-7AB5A88B536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CCA9-D801-40CF-BB8B-0BBE32F4148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gross.html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 rot="20788800">
            <a:off x="228600" y="761760"/>
            <a:ext cx="8085240" cy="41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66ccff">
                        <a:alpha val="68235"/>
                      </a:srgbClr>
                    </a:gs>
                    <a:gs pos="100000">
                      <a:srgbClr val="ffcc66"/>
                    </a:gs>
                  </a:gsLst>
                  <a:lin ang="621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WALKIE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66ccff">
                      <a:alpha val="68235"/>
                    </a:srgbClr>
                  </a:gs>
                  <a:gs pos="100000">
                    <a:srgbClr val="ffcc66"/>
                  </a:gs>
                </a:gsLst>
                <a:lin ang="621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66ccff">
                        <a:alpha val="68235"/>
                      </a:srgbClr>
                    </a:gs>
                    <a:gs pos="100000">
                      <a:srgbClr val="ffcc66"/>
                    </a:gs>
                  </a:gsLst>
                  <a:lin ang="621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ALKIE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66ccff">
                      <a:alpha val="68235"/>
                    </a:srgbClr>
                  </a:gs>
                  <a:gs pos="100000">
                    <a:srgbClr val="ffcc66"/>
                  </a:gs>
                </a:gsLst>
                <a:lin ang="621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6921000" y="506556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Jerem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9/27/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Computer 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08240" y="5365800"/>
            <a:ext cx="359748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usic: freeplay music,vide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Gam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10/4/2010,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freeplayMusic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Inventor: Al Gros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In 1948 Al pioneered the citizen’s ban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He made the telephone pager in194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Al was born in 1918 in Toronto, Canad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He grew up in Clevela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Al earned his radio license at age 1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2388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Invention: Walkie Talk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The effective range is 30 mi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These tools weigh 3 ½ pounds ea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The collapsible antenna made it easy to sto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They are powered by 2 A and B batter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1938 is the year they were invent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543800" y="457200"/>
            <a:ext cx="1606680" cy="1905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715160" y="3168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p 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Al"/>
          <p:cNvPicPr/>
          <p:nvPr/>
        </p:nvPicPr>
        <p:blipFill>
          <a:blip r:embed="rId1"/>
          <a:srcRect l="28724" t="0" r="0" b="0"/>
          <a:stretch/>
        </p:blipFill>
        <p:spPr>
          <a:xfrm>
            <a:off x="3657600" y="1981080"/>
            <a:ext cx="5105520" cy="2208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219320" y="4952880"/>
            <a:ext cx="103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Verdana"/>
              </a:rPr>
              <a:t>LEMELSON MIT, </a:t>
            </a:r>
            <a:r>
              <a:rPr b="0" lang="en-US" sz="1800" spc="-1" strike="noStrike" u="sng">
                <a:solidFill>
                  <a:srgbClr val="00ff00"/>
                </a:solidFill>
                <a:uFillTx/>
                <a:latin typeface="Verdana"/>
              </a:rPr>
              <a:t>The Walkie Talkie</a:t>
            </a:r>
            <a:r>
              <a:rPr b="0" lang="en-US" sz="1800" spc="-1" strike="noStrike">
                <a:solidFill>
                  <a:srgbClr val="00ff00"/>
                </a:solidFill>
                <a:latin typeface="Verdana"/>
              </a:rPr>
              <a:t>, 9/29/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82120" y="5257800"/>
            <a:ext cx="46522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web.mit.edu/invent/iow/gros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Al"/>
          <p:cNvPicPr/>
          <p:nvPr/>
        </p:nvPicPr>
        <p:blipFill>
          <a:blip r:embed="rId3"/>
          <a:stretch/>
        </p:blipFill>
        <p:spPr>
          <a:xfrm>
            <a:off x="380880" y="1523880"/>
            <a:ext cx="2855880" cy="3067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12Z</dcterms:created>
  <dc:creator>install</dc:creator>
  <dc:description/>
  <dc:language>en-US</dc:language>
  <cp:lastModifiedBy>install</cp:lastModifiedBy>
  <dcterms:modified xsi:type="dcterms:W3CDTF">2010-10-14T17:29:32Z</dcterms:modified>
  <cp:revision>17</cp:revision>
  <dc:subject/>
  <dc:title>Slide 1</dc:title>
</cp:coreProperties>
</file>